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3D2-A99E-474F-855F-1E93F7E5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17F-B0D4-4063-A380-E811F0D3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037-4663-4614-B844-7C367BD3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A42-F923-4733-896F-FF5FBBDB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15A-235B-4034-A01C-0A8134EA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F13-2F4D-494B-90B7-5AE75728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A1D-0D64-4CEA-8568-25FEEFF6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D80-1460-4FED-8480-AE8B332F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CFC-02FD-4D96-A11C-EFD3ABD7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8E0-E0C9-42AA-8501-D91C1E8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04A-C13E-4B97-A8BC-B0D936B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C9A-BD7B-4D23-85BF-F9C711D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3A3-E021-40F1-96B3-2B72B951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Spanish civil w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1936-19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28657001"/>
          <p:cNvPicPr/>
          <p:nvPr/>
        </p:nvPicPr>
        <p:blipFill>
          <a:blip r:embed="rId1"/>
          <a:stretch/>
        </p:blipFill>
        <p:spPr>
          <a:xfrm>
            <a:off x="1219320" y="1676520"/>
            <a:ext cx="69339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yalists vs. Nation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Nationalists created “fiestas of dea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ull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chine-gunning intellectuals, priests,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a-Franco-TakingAccolades"/>
          <p:cNvPicPr/>
          <p:nvPr/>
        </p:nvPicPr>
        <p:blipFill>
          <a:blip r:embed="rId1"/>
          <a:stretch/>
        </p:blipFill>
        <p:spPr>
          <a:xfrm>
            <a:off x="4114800" y="2433600"/>
            <a:ext cx="4572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Political right battled against socialism, communism, and anarc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Foreign volunteers joined loy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20,000 foreig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ernational brigades” began defending Madrid in November 19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0415914086"/>
          <p:cNvPicPr/>
          <p:nvPr/>
        </p:nvPicPr>
        <p:blipFill>
          <a:blip r:embed="rId1"/>
          <a:stretch/>
        </p:blipFill>
        <p:spPr>
          <a:xfrm>
            <a:off x="5130720" y="1600200"/>
            <a:ext cx="336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Writers who fought with loyalists wrote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Whom the Bell Tolls” (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Homage to Catalonia” (19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1958615"/>
          <p:cNvPicPr/>
          <p:nvPr/>
        </p:nvPicPr>
        <p:blipFill>
          <a:blip r:embed="rId1"/>
          <a:stretch/>
        </p:blipFill>
        <p:spPr>
          <a:xfrm>
            <a:off x="4724280" y="191916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Franco’s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Franco advantage over loy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Loyalists lacked necessities (out of date equi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easants il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narchis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eign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Not enough help from wester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franco"/>
          <p:cNvPicPr/>
          <p:nvPr/>
        </p:nvPicPr>
        <p:blipFill>
          <a:blip r:embed="rId1"/>
          <a:stretch/>
        </p:blipFill>
        <p:spPr>
          <a:xfrm>
            <a:off x="4815000" y="1600200"/>
            <a:ext cx="3806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British government refused to get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France feared a widened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Soviet Union:  the  only country to aid the Spanish Republic with tanks, airplanes,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E01829_[1]"/>
          <p:cNvPicPr/>
          <p:nvPr/>
        </p:nvPicPr>
        <p:blipFill>
          <a:blip r:embed="rId1"/>
          <a:stretch/>
        </p:blipFill>
        <p:spPr>
          <a:xfrm>
            <a:off x="4648320" y="2476440"/>
            <a:ext cx="40384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Italy &amp; Germany’s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 and I assistance w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taly sent 100,000 troops (easily defe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talian pilots destroyed loyalists suppl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joker"/>
          <p:cNvPicPr/>
          <p:nvPr/>
        </p:nvPicPr>
        <p:blipFill>
          <a:blip r:embed="rId1"/>
          <a:stretch/>
        </p:blipFill>
        <p:spPr>
          <a:xfrm>
            <a:off x="5030640" y="1371600"/>
            <a:ext cx="3303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Italy &amp; Germany’s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&amp; I assistance w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sent planes, guns, munitions,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nationalist pilots and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Mussolini%20and%20Hitler%20-%20Guardian%20Angels"/>
          <p:cNvPicPr/>
          <p:nvPr/>
        </p:nvPicPr>
        <p:blipFill>
          <a:blip r:embed="rId1"/>
          <a:stretch/>
        </p:blipFill>
        <p:spPr>
          <a:xfrm>
            <a:off x="4740120" y="1600200"/>
            <a:ext cx="4024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Italy and Germany’s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and I assistance w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Condor Legion bombed loyalist army and civi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6, 1937 bombed Guer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H04"/>
          <p:cNvPicPr/>
          <p:nvPr/>
        </p:nvPicPr>
        <p:blipFill>
          <a:blip r:embed="rId1"/>
          <a:stretch/>
        </p:blipFill>
        <p:spPr>
          <a:xfrm>
            <a:off x="4648320" y="207972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guernica"/>
          <p:cNvPicPr/>
          <p:nvPr/>
        </p:nvPicPr>
        <p:blipFill>
          <a:blip r:embed="rId1"/>
          <a:stretch/>
        </p:blipFill>
        <p:spPr>
          <a:xfrm>
            <a:off x="1295280" y="393840"/>
            <a:ext cx="655344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Franco’s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7 – Franco controlled north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celona fell in January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ain and France recognized Franco’s Reg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j0270912[1]"/>
          <p:cNvPicPr/>
          <p:nvPr/>
        </p:nvPicPr>
        <p:blipFill>
          <a:blip r:embed="rId1"/>
          <a:stretch/>
        </p:blipFill>
        <p:spPr>
          <a:xfrm>
            <a:off x="4888080" y="1828800"/>
            <a:ext cx="379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The Span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Battlefield of European ide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Testing ground for new German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High Tower Text"/>
              </a:rPr>
              <a:t>Nobility, C.C. and army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controlled politics in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770"/>
          <p:cNvPicPr/>
          <p:nvPr/>
        </p:nvPicPr>
        <p:blipFill>
          <a:blip r:embed="rId1"/>
          <a:stretch/>
        </p:blipFill>
        <p:spPr>
          <a:xfrm>
            <a:off x="5035680" y="1600200"/>
            <a:ext cx="351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Franco’s Dicta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Franco NOT a typical Fasc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j0116907[1]"/>
          <p:cNvPicPr/>
          <p:nvPr/>
        </p:nvPicPr>
        <p:blipFill>
          <a:blip r:embed="rId1"/>
          <a:stretch/>
        </p:blipFill>
        <p:spPr>
          <a:xfrm>
            <a:off x="5486400" y="1828800"/>
            <a:ext cx="298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o’s Dicta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ansion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ed C.atholic Church som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j0212511[1]"/>
          <p:cNvPicPr/>
          <p:nvPr/>
        </p:nvPicPr>
        <p:blipFill>
          <a:blip r:embed="rId1"/>
          <a:stretch/>
        </p:blipFill>
        <p:spPr>
          <a:xfrm>
            <a:off x="4876920" y="2057400"/>
            <a:ext cx="400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impact of Spanish Civil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G and I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solini wanted to become closer to Hi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936, Mussolini signed pact with Hi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rauscher"/>
          <p:cNvPicPr/>
          <p:nvPr/>
        </p:nvPicPr>
        <p:blipFill>
          <a:blip r:embed="rId1"/>
          <a:stretch/>
        </p:blipFill>
        <p:spPr>
          <a:xfrm>
            <a:off x="5518080" y="2192400"/>
            <a:ext cx="28958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impact of Spanish Civil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solini visits Berlin in fall of 19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flattered the 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Interests lay to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Could have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1941%20Hitler%20&amp;%20Mussolini"/>
          <p:cNvPicPr/>
          <p:nvPr/>
        </p:nvPicPr>
        <p:blipFill>
          <a:blip r:embed="rId1"/>
          <a:stretch/>
        </p:blipFill>
        <p:spPr>
          <a:xfrm>
            <a:off x="4572000" y="2031840"/>
            <a:ext cx="4343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European impa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panish Civil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solini originally had support of Jewis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8 M. campaigned agains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itlmusso"/>
          <p:cNvPicPr/>
          <p:nvPr/>
        </p:nvPicPr>
        <p:blipFill>
          <a:blip r:embed="rId1"/>
          <a:stretch/>
        </p:blipFill>
        <p:spPr>
          <a:xfrm>
            <a:off x="4648320" y="1984320"/>
            <a:ext cx="41907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3amigos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Regional 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Cata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Ba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Labor str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Assass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igh Tower Text"/>
              </a:rPr>
              <a:t>Police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1768"/>
          <p:cNvPicPr/>
          <p:nvPr/>
        </p:nvPicPr>
        <p:blipFill>
          <a:blip r:embed="rId1"/>
          <a:stretch/>
        </p:blipFill>
        <p:spPr>
          <a:xfrm>
            <a:off x="5643720" y="2438280"/>
            <a:ext cx="295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 &amp;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Spanish Republic formed in 19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nticlerica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New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ealthy landowners jo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igh Tower Text"/>
              </a:rPr>
              <a:t>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cwposter"/>
          <p:cNvPicPr/>
          <p:nvPr/>
        </p:nvPicPr>
        <p:blipFill>
          <a:blip r:embed="rId1"/>
          <a:stretch/>
        </p:blipFill>
        <p:spPr>
          <a:xfrm>
            <a:off x="4802040" y="1295280"/>
            <a:ext cx="3876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 &amp;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lack Years (33 to 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Right more conservative, left more vio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ct Revolution of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eftists rose up and were crushed by General Fr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asiones-large"/>
          <p:cNvPicPr/>
          <p:nvPr/>
        </p:nvPicPr>
        <p:blipFill>
          <a:blip r:embed="rId1"/>
          <a:stretch/>
        </p:blipFill>
        <p:spPr>
          <a:xfrm>
            <a:off x="4419720" y="161460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1935 (Radicals, Socialists, Communists) formed the Popular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ell apar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Fascist movement of lower middle class similar to Italian and German Fasc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j0189440[1]"/>
          <p:cNvPicPr/>
          <p:nvPr/>
        </p:nvPicPr>
        <p:blipFill>
          <a:blip r:embed="rId1"/>
          <a:stretch/>
        </p:blipFill>
        <p:spPr>
          <a:xfrm>
            <a:off x="4267080" y="2595600"/>
            <a:ext cx="44960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July 17, 19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ilitary insurrection in 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 &amp; It. took insurgent to Spanish ma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Took over loyalist troops in key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Loyalists were still divided and not un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Nationalists became more unified under Fr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N00717_[1]"/>
          <p:cNvPicPr/>
          <p:nvPr/>
        </p:nvPicPr>
        <p:blipFill>
          <a:blip r:embed="rId1"/>
          <a:stretch/>
        </p:blipFill>
        <p:spPr>
          <a:xfrm>
            <a:off x="4648320" y="2604960"/>
            <a:ext cx="40384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Social and Political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General Francisco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hort, portly, b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nsidered himself a warrior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franco"/>
          <p:cNvPicPr/>
          <p:nvPr/>
        </p:nvPicPr>
        <p:blipFill>
          <a:blip r:embed="rId1"/>
          <a:stretch/>
        </p:blipFill>
        <p:spPr>
          <a:xfrm>
            <a:off x="4638600" y="1600200"/>
            <a:ext cx="41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Loyalists vs. Nationa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ivil war was as savage-like as 1600’s War of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1/6 were killed in b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Nationalists air raids killed mostly civi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Disease and malnutrition in political p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ergy and nuns killed by loy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beat1"/>
          <p:cNvPicPr/>
          <p:nvPr/>
        </p:nvPicPr>
        <p:blipFill>
          <a:blip r:embed="rId1"/>
          <a:stretch/>
        </p:blipFill>
        <p:spPr>
          <a:xfrm>
            <a:off x="5022720" y="1523880"/>
            <a:ext cx="3430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5:45:44Z</dcterms:created>
  <dc:creator>padmin</dc:creator>
  <dc:description/>
  <dc:language>en-US</dc:language>
  <cp:lastModifiedBy>Sue Gregory</cp:lastModifiedBy>
  <dcterms:modified xsi:type="dcterms:W3CDTF">2008-04-16T05:13:11Z</dcterms:modified>
  <cp:revision>9</cp:revision>
  <dc:subject/>
  <dc:title>Slide 1</dc:title>
</cp:coreProperties>
</file>